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904-8786-4D4D-B160-534A90E0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554-67A7-4D2C-93BD-8D7CD9C3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32A-188E-45DD-A490-EA7FB55B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67F-B11B-4CA1-893A-FCD3E8D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C03-3465-470A-8E6F-A13ED45A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49C-183A-4EF2-A477-5B3AE2B0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C2A-C25C-4B6F-8047-3C318349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FD1-ABE1-4EE2-B29C-71FB0DF4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9A3-FA3F-4630-9637-26CD089C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D14-247B-4428-B860-56DE2542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D59-C1CE-46C6-9A60-1E9D17B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FFB-A940-4512-A969-095943E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3B2D-ADC0-496B-970C-C4D2D37DAAB8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5800" y="228600"/>
            <a:ext cx="769608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122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הגליל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762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חבל ארץ בחלקה הצפוני של מדינת ישראל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גליל מתחלק לשני חלקים: גליל עליון וגליל תחתון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גליל התחתון, דרומי יות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5715000" y="914400"/>
            <a:ext cx="3219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15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הצומח בגליל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Object 3" descr=""/>
          <p:cNvPicPr/>
          <p:nvPr/>
        </p:nvPicPr>
        <p:blipFill>
          <a:blip r:embed="rId2"/>
          <a:stretch/>
        </p:blipFill>
        <p:spPr>
          <a:xfrm>
            <a:off x="5011560" y="2168640"/>
            <a:ext cx="4132440" cy="4689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28600" y="1108080"/>
            <a:ext cx="5334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בגליל מצויים שטחים רבים המכוסים חורש ים תיכוני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חורשים ויערו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בתות וגאריגו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צומח הסלעים הגעשי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צומח נחלים ומקווי מ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0000"/>
                </a:solidFill>
                <a:latin typeface="Times New Roman"/>
              </a:rPr>
              <a:t>צומח של סלעים ומצוק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457200" y="4267080"/>
            <a:ext cx="15620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האקלים בגליל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438280" y="1371600"/>
            <a:ext cx="647712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האקלים בגליל הוא לח וגשום. זהו אקלים ים תיכוני שבו החורף קר וגשום והקיץ חם ויב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הגליל הוא האיזור הגשום ביותר בארץ ישראל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לדוגמא: כמות הגשמים השנתית הממוצעת בהר מירון היא </a:t>
            </a: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1010</a:t>
            </a:r>
            <a:r>
              <a:rPr b="0" lang="he-IL" sz="3600" spc="-1" strike="noStrike">
                <a:solidFill>
                  <a:srgbClr val="ffffff"/>
                </a:solidFill>
                <a:latin typeface="Times New Roman"/>
              </a:rPr>
              <a:t> מ”מ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bject 4" descr=""/>
          <p:cNvPicPr/>
          <p:nvPr/>
        </p:nvPicPr>
        <p:blipFill>
          <a:blip r:embed="rId2"/>
          <a:stretch/>
        </p:blipFill>
        <p:spPr>
          <a:xfrm>
            <a:off x="0" y="228600"/>
            <a:ext cx="364824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5867280" y="914400"/>
            <a:ext cx="2108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אוכלוסיית הגליל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2543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5" descr=""/>
          <p:cNvPicPr/>
          <p:nvPr/>
        </p:nvPicPr>
        <p:blipFill>
          <a:blip r:embed="rId2"/>
          <a:stretch/>
        </p:blipFill>
        <p:spPr>
          <a:xfrm>
            <a:off x="0" y="0"/>
            <a:ext cx="165276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6" descr=""/>
          <p:cNvPicPr/>
          <p:nvPr/>
        </p:nvPicPr>
        <p:blipFill>
          <a:blip r:embed="rId3"/>
          <a:stretch/>
        </p:blipFill>
        <p:spPr>
          <a:xfrm>
            <a:off x="7189920" y="4876920"/>
            <a:ext cx="19540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Object 7" descr=""/>
          <p:cNvPicPr/>
          <p:nvPr/>
        </p:nvPicPr>
        <p:blipFill>
          <a:blip r:embed="rId4"/>
          <a:stretch/>
        </p:blipFill>
        <p:spPr>
          <a:xfrm>
            <a:off x="0" y="5334120"/>
            <a:ext cx="150336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Object 9" descr=""/>
          <p:cNvPicPr/>
          <p:nvPr/>
        </p:nvPicPr>
        <p:blipFill>
          <a:blip r:embed="rId5"/>
          <a:stretch/>
        </p:blipFill>
        <p:spPr>
          <a:xfrm>
            <a:off x="3581280" y="533520"/>
            <a:ext cx="1201680" cy="1218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279440"/>
            <a:ext cx="91440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בגליל יש צורות התיישבות מיוחדות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כפרי הדרוזי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התיישבות כפרית יהודית 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e-IL" sz="6000" spc="-1" strike="noStrike">
                <a:solidFill>
                  <a:srgbClr val="ffffff"/>
                </a:solidFill>
                <a:latin typeface="Times New Roman"/>
              </a:rPr>
              <a:t>(ה”מצפים”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50920" y="-603360"/>
          <a:ext cx="8381880" cy="7056720"/>
        </p:xfrm>
        <a:graphic>
          <a:graphicData uri="http://schemas.openxmlformats.org/drawingml/2006/table">
            <a:tbl>
              <a:tblPr/>
              <a:tblGrid>
                <a:gridCol w="1295280"/>
                <a:gridCol w="2895480"/>
                <a:gridCol w="4191120"/>
              </a:tblGrid>
              <a:tr h="70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מס' שקופי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תיקון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4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בעיות בעיצוב המצגת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29"/>
          <p:cNvSpPr/>
          <p:nvPr/>
        </p:nvSpPr>
        <p:spPr>
          <a:xfrm>
            <a:off x="4284720" y="5877000"/>
            <a:ext cx="411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ש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3:27:36Z</dcterms:created>
  <dc:creator>פינקי וצילה ירחי</dc:creator>
  <dc:description/>
  <dc:language>en-US</dc:language>
  <cp:lastModifiedBy>נוה חנה</cp:lastModifiedBy>
  <dcterms:modified xsi:type="dcterms:W3CDTF">2009-10-29T09:48:34Z</dcterms:modified>
  <cp:revision>10</cp:revision>
  <dc:subject/>
  <dc:title>ללא כותרת שקופי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